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2650-7B41-4E38-81FA-05EDE6A96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D0F6-ADCB-4542-B0E8-4D661E041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extreme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higher extreme =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upper quartile = 25</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8874-AC02-45F5-9064-17FFEF834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upper quartile =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lower quartile from the higher quartile. Interquartile range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y interquartile range by 1.5. 20 X 1.5 =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at to the upper quartile. 25 + 30 =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at from the lower quartile. 5 - 30 = -25</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C401-20D5-4E40-A929-D8BBFDF9A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9737-88AB-4E75-9106-F2A5E1AF8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0AF61-8AC1-4DD9-92E6-41AAE632F6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5FA8D7C7-E151-44FA-8B76-076BF5BFC8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214D2A-51D3-4F96-8EE5-EA652ABE86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96FFA-6126-4492-A4B2-670C14B0F9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F809D-1242-44DD-8745-DF701DD43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FB3F4-DF80-461B-A057-24780778D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1FA56-8A1B-47AE-8245-4074967CD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96405-8D0E-4246-AA19-2022B69FF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5D5274-7566-4304-AA6A-4A8AE39058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BBDD9-B916-479B-A720-9D52DAB604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DF68C8-6A56-4124-8A55-F1D119D2BA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EC0FE4-23DF-47D0-A146-8D2757B8E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998BE7BE-C7D0-451B-B19A-4528B07209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8E60C8-3D74-4D73-BA89-4C069B1D45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E2868-9A9B-4900-B7AE-7B0C1BE680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65F569-F861-4972-8543-3EAD9A034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31D799-CCCF-4ECB-A705-A7C17ADFB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24F32E-EED4-4CE2-BC68-F6B743A453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6167E-5D00-4A1C-A613-51CAC3730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1F7B3-0C0F-4D13-9206-24B3DC2E3D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05AB4-321E-469E-8647-478F449A9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F37C9-2745-418D-8218-CB9DB8B71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88F0A4-F82B-4F8F-8BF5-850387AEC0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02C6C16C-04E1-4656-9393-C721C5DF78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F0BA4-5C66-4BEB-80CD-219DEC7087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76CB00-21B7-40E8-8B98-7C7D19A58F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442B2C-3F23-4A0B-869A-D8C679C9A6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0D3F58-636A-44DC-B75D-3B2228F0C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C12D8F-DCDE-4E6E-BDB7-BD19B9C305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ACF719-D073-4929-9CC0-1E1BE423E1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7A36E0-71B1-47F6-9C75-087672D955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B9A885-FDC6-4C3E-83F1-0BF914277B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578291-E08C-469B-9F82-C3970C9517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49113D-E58A-46F4-9BAC-7BD1EC067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E441EC-5010-4B69-BDA2-306D46E9D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1CC0A3-C930-46E9-8422-EF188F8405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289FB3-B8F7-48FA-B454-751FF1BC2D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9EAD02-63BF-4DBE-8F7F-275A5012E7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74F2C3-6C44-405B-9152-F477EA1739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17DFD4-324B-4144-BA94-A889945ADC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C8B675-986D-4124-8C62-7C290DA644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FCFB9B-010B-4E4B-B16C-040F695A81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7A25F6-0C84-4B77-9816-8F6054AC94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AF5FCF-256B-47FA-8269-25E078666B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EDE5F7-F714-44E2-8256-7868A00A38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CBA3047B-0FDC-4B22-8CF4-60CB16F7C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6AF766-522E-4BD6-BD81-12502CD7A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B202BA-5A3B-480D-B4FD-592A1B9FC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263408-E7DA-4C68-BAF8-36A26580D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291600-652E-4BB5-93D1-56CFA0EF03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727442-56B7-49CE-9B6E-E0D5A57BC3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DAE1CA1-F13E-44BD-9587-80701A5AE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03D291A8-A793-4741-9B5B-A5B9F4089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D5719BB6-0FFA-4C18-B68F-1D4A7074C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D19A36F0-BDE7-4471-AD5E-40425DF83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9C9E5CE-44D2-4423-897B-7BF304147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1C49CBA5-C0C5-4962-B546-33F1FE09C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E9FBDC37-BCAD-4E30-BDC5-1443BDFCE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E46C16B-60C3-459E-B305-7E45451FE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5437A365-DF59-4BE8-9311-F2B1FA824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B57CFC5A-8BFD-43BA-9F1C-6B4D76B04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7E186779-0027-4B9D-8983-CDFCB9479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F5E01-5C53-4444-9E0A-C4A0AE6B3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41CCA-ED7C-4B25-AF86-952E29C6A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514AE-7893-4C92-8595-EAF971A54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5D7DA-22F9-447D-87CD-71FA6A051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07A28-E58B-458F-AB10-C4A72F43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5D9DF5E5-3A1C-4A17-BD75-AE194D424F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83F03-D5B0-4212-9A83-0C3BE6AED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16EE1-6675-4EAE-ACF0-9FF3718DC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50783-F0A8-47DE-8E7A-4CE068A4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C7ACF-E985-4DA4-BC0B-BB4C6E725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077AC-B721-4441-878D-5EDC3EFD3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35D19-77C1-4559-A24B-352FC3202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ADE98-7B88-4496-B811-2725715B3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29B568-0527-46C7-A3A6-E4DA99664B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D5BF7-2847-499C-8070-9C3E69934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EC2CF-79B7-4FA0-BDA0-20BDC93138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9C36ED6-588A-4471-8A45-18186D98EB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3169F-9A8D-4955-902E-2DC5CDF8D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2D515-19A1-42F1-83FA-674D938E4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F07A3-EDA0-4807-9D5B-55FE01F75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C64D9-60ED-402F-AF6A-93A4AD6D0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C01C4-6B26-4B39-BA58-944B1BD27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DF8ED-3681-4961-AF8B-47608EDF6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A1A6B-EB42-4B60-86C9-F0792FCE3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0373B-2714-4AE4-BCC7-F2DE9427A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978B1A-409E-4FAF-87C0-7F4037577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D8A59-6F82-4432-BD85-B48F175FE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BC946096-5243-4253-B995-FEB2239E80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6E23D-DE26-4C8E-B371-C0DE18B30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85AB5-4A81-4A20-9164-D5F51CAE4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BF045D-2B1F-4E60-95A5-52C546748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A3ADB-6003-437B-985E-B6CEB3C30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5738F-C3BA-49BD-A695-E8CA5B105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08C66-D111-42A4-B7E0-72186DEBE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9E12D-5332-4BAB-900B-EC2E3E972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75957-4F43-4672-9992-A2E9C9A05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74D00-2565-4AE8-AAAC-3D3099EA5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A3FEA2-E7AB-4CD7-952C-8555ED21F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C4CD62EA-5FD0-4DFB-8DD2-8D56EA6C21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6CD93-9D24-43CD-94D6-A172F6E04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C8C670-52D6-47A4-9030-5D1885563E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AF77E-CA5F-4088-AE28-68DE26C61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DFFFB-7125-49F0-92C7-AC2B4638B3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A32964-A6BE-446D-A9DE-7826EBC73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7B30A-82EA-4C34-A3E6-FFEA4655E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6CEAA-8540-4DD7-AFC8-B9A07D596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C44B5-13A9-43FF-B673-2832CA2E5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7ED69-810D-403A-80A3-4F21F54A6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36B79-C677-49BD-8F84-2AEB2E6BC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C039DEA-3875-4A67-8ACC-359139380A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F9B39-3E30-4418-9E08-EFBC406E2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4B6FBC-F78D-4FEB-BA68-5E351F6E9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589D5-DAAE-4143-92AE-74CE627203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FD3F86-A2BD-4D9D-B84E-44E581F6EB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7EF41-B4FA-4F35-B79B-C126AD444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1452B-53AF-4970-AF32-ED5F5FE46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A1F24-08AC-4FCB-B8EF-BFA54B5A3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BEA7C3-8B2C-4DBE-8371-8E0E7EE83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4BB5E-4594-4B7E-90FA-CDA6B87356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A4B2F-2587-494C-8C54-7F1A45739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CEBE94D-89C4-4E83-AAA1-E66DC56D1A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EB077-BA31-49E7-A2A5-4395F87297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08C54-564D-428D-8C26-EA7C52428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90C71-3A32-4EFA-9560-D35B7A9514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4FBA5C-2A07-4AB4-9D91-138D2A419D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6AB37C-6665-4DC4-9266-BCD03EF63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D113D0-F6D0-432A-9A96-70234DCE3F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32ABB-53B0-47B3-B408-9B1B853FB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B08B0-D370-46F9-BEC4-CF60AB184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325497-1580-4626-A538-8C39F374C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DBCA8-F5C2-4129-91DE-651F3434F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2214979A-5F8A-4AA6-8532-51DA6BA797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1A8025-D8D4-4FEB-886E-8C81085D0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F01F2-E128-46AD-BF6F-20A88BDA5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D7A33-85DE-43AF-9883-5CAD70806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8B5A6-35D1-4763-9BC8-1E475A1A3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EF5922-C7A3-442E-B55A-6A2C12B32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FAECA-8074-45B7-9B61-0CF06F9A6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28EE23-31E6-4FEF-AD1E-950CC91E99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A49763-99D7-4617-8FCB-46B6EB36C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A2492-D949-4F4A-856E-89B7031BB8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D8EA2-27F7-4DB0-BC87-3EA7AC0930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2770-74FD-4641-8DC4-F8F2030DC96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B03-AEC8-4121-A3BE-AD87265A05A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134C-54AB-46B3-8642-94869A59EF9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021C-663E-4670-B3CA-E990A49AE31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1AC3-54AF-42AA-A50C-E4B92B91BAA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CEA9-559D-4EAD-84A1-AAEFBEDB53B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2A23-3ABD-4FDA-BBF5-45B8678F5895}"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0519-BD66-4777-8286-FC6D65004E3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008F-8D84-4581-9EF7-4F9316C269E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4F1C-605F-475D-953A-694A10F15CB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3FD1-E8B9-47C1-8047-1388C9CD3AA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09E3-AE61-455A-BC8C-EAA2F4D8413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ort the data in ascending ord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Example data set: {4, 5, 2, 3, 15, 3, 3, 5}.</a:t>
            </a:r>
            <a:endParaRPr b="0" lang="en-US" sz="20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orted, it is {2, 3, 3, 3, 4, 5, 5, 1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median. This is the number at which half of the data points are larger and half are smaller. If there is an even number of data points, the middle two are averaged.</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e middle points are 3 and 4, so the median is (3 + 4)/2, or 3.5.</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upper quartile, Q2. This is the data point at which 25% of the data are larg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is is (5 + 5)/2, or 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lower quartile, Q1. This is the data point at which 25% of the data are small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3 + 3)/2, or 3.</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 IQ.</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Q2 - Q1 = 5 - 3, or 2.</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it from the lower quartile. Any data point outside these values is a mild outli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set, 1.5 x 2 = 3. 3 - 3 = 0 and 5 + 3 = 8. So any value less than 0 or greater than 8 would be a mild outlier. This means that 15 qualifies as an outlier.</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ir home gardens. Each student brings in a sample of the soil used in their home gardens and runs pH tests. The class data is statistically analyz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termining the five-number summary:</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extreme. (low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higher extreme. (high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median. (middle ter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quartile. (median of lower half of data)</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upper quartile. (median of upper half of dat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ing an outlier:</a:t>
            </a:r>
            <a:endParaRPr b="0" lang="en-US" sz="28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median.</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upp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low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from the lower quartile. Any data outside of these values is an outli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6.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7.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6.2, 6.3, 6.6, 6.85, 7.2)</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Fundamental Plant Science students complete soil tests, examine the data, and draw conclusio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6.85 – 6.3 = 0.5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0.55 X 1.5 = 0.82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85 + 0.825 = 7.6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3 - 0.825 = 5.4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5.48 to 7.68.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nitr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596" name="Picture 1" descr=""/>
          <p:cNvPicPr/>
          <p:nvPr/>
        </p:nvPicPr>
        <p:blipFill>
          <a:blip r:embed="rId1"/>
          <a:stretch/>
        </p:blipFill>
        <p:spPr>
          <a:xfrm>
            <a:off x="6629400" y="2133720"/>
            <a:ext cx="1990800" cy="121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4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5, 20, 30, 40, 45)</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 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 2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X 1.5 = 3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0 + 30 = 7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 20 = 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0 to 70.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phosph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607" name="il_fi" descr="http://www4.agr.gc.ca/resources/prod/img/terr/images/1234205624280_image1.gif"/>
          <p:cNvPicPr/>
          <p:nvPr/>
        </p:nvPicPr>
        <p:blipFill>
          <a:blip r:embed="rId1">
            <a:lum bright="20000"/>
          </a:blip>
          <a:stretch/>
        </p:blipFill>
        <p:spPr>
          <a:xfrm>
            <a:off x="6553080" y="2133720"/>
            <a:ext cx="2190960" cy="120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0, 5, 20, 25, 40)</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undamental Plant Science PS.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examine data to evaluate and manage soil/media and nutri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soil/media and plant tissue for nutrient level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pret test of soil/media and/or plant tissu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are not any values outside of -25 to 55, so there are no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 soils around the school building prior to planting flowers. Here is the recorded pH data from various locations and a representative s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8, 5.1, 5.0, 8.0, 5.3, 5.5, 5.8</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5.0, 5.1, 5.5, 5.8, 8.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Yes, 8.0 is an outlier because it is out of the acceptable range of 4.05 to 6.8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S.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draw conclusions from a set of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ve-number summa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sts of the upper and lower extremes, the median, and the upper and lower quartile.</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extreme = Great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extreme = Low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dian = Middle term when data arranged least to greates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quartile = Median of the upper half of data</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quartile = Median of the lower half of data</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determining quartile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order from least to greates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edian.</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iddle term of each half of the data on either side of the median. These values are the upper and lower quartil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the set {1, 3, 4, 5, 6, 7, 9}. </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extreme is 1.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half is {1, 3, 4}, and the middle term of that half is 3. Therefore, the lower quartile is 3.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median is the middle term, 5.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half is {6, 7, 9}, and the middle term of that half is 7. Therefore, the upper quartile is 7.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extreme is 9.</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 outlier is a value in a data set that is far from the other values. Outliers can be caused by experimental errors, measurement errors, or by a long-tailed popul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the former cases, it can be desirable to identify outliers and remove them from data before performing a statistical analysis, because they can throw off the results and inaccurately represent the sample popul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simplest way to identify outliers is with the quartile metho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20:06:17Z</dcterms:modified>
  <cp:revision>23</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0040325</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